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A629-F48F-4587-ADE9-57B1174AE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1B2E-2864-4EA2-9821-238A8855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8170-CF0B-45F4-A654-16740A952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A84F-5779-41F6-BA0D-B27B0F994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EF575-E1DF-4CFF-9622-B9DB8E94C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3F63-2D58-4CFA-8FEF-E2993F34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A55B-60FB-4E13-9C38-1F9E4D84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20E6-C12C-4339-B45A-CF0A287A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3912E-5020-4CAE-B47E-30B19932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C870-0DCF-49F4-A852-C507F2A5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36D8-2615-4EFA-A3ED-CBF132E1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C388-D6BA-456F-BEE7-0E4E4AC6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5680-56C4-4D2D-BBE4-C86388D8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AD80-78BF-4BF3-BFC1-A21D4C3D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CB4ED-F679-4B7A-8D20-DB47BEC4B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D9D5A-A9A4-4694-BF3E-B4B5576CC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D074-6087-4F06-B509-A7680FBEA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5244-24A4-4D76-91B0-82CA1335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85F7-4F37-4C03-8600-40592807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BA1D-B9EE-4858-BF5A-C5F8C404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DD05-EDB5-479A-AC71-7002799D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6468-8E3C-4263-AFF3-05A987FA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6192-4AA0-40E4-982D-57579DA3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0BC2-4E5F-4163-93BA-DE69BE76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7E87-4437-4C5A-82AA-94916183A9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482B-AC01-4317-AD67-2D4E127FF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trial balance che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09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xbrli:xbr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accountingEntries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balance-brought-forwar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standar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gl-cor:accountingEntries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xbrli:xbr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6920" y="2246400"/>
            <a:ext cx="11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account</a:t>
            </a:r>
            <a:br>
              <a:rPr sz="1800"/>
            </a:b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bal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0400" y="441972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period’s</a:t>
            </a:r>
            <a:br>
              <a:rPr sz="1800"/>
            </a:b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295280" y="2133720"/>
            <a:ext cx="3733920" cy="38088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371600" y="4191120"/>
            <a:ext cx="3505320" cy="45720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97480" y="327672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D – de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C - cred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638680" y="2971440"/>
            <a:ext cx="457200" cy="60948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3581280"/>
            <a:ext cx="457200" cy="121932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571500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ff"/>
                </a:solidFill>
                <a:uFillTx/>
                <a:latin typeface="Arial"/>
              </a:rPr>
              <a:t>Check if sections are in balance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sum(amts with ‘D’ siblings) = </a:t>
            </a:r>
            <a:br>
              <a:rPr sz="1800"/>
            </a:b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sum(amts with ‘C’ sibling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924680" y="1752480"/>
            <a:ext cx="76320" cy="1905120"/>
          </a:xfrm>
          <a:custGeom>
            <a:avLst/>
            <a:gdLst>
              <a:gd name="textAreaLeft" fmla="*/ 0 w 76320"/>
              <a:gd name="textAreaRight" fmla="*/ 27360 w 7632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0" y="3733920"/>
            <a:ext cx="76320" cy="1904760"/>
          </a:xfrm>
          <a:custGeom>
            <a:avLst/>
            <a:gdLst>
              <a:gd name="textAreaLeft" fmla="*/ 0 w 76320"/>
              <a:gd name="textAreaRight" fmla="*/ 27360 w 7632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7619760" y="2743200"/>
            <a:ext cx="533160" cy="297180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86600" y="4724280"/>
            <a:ext cx="152280" cy="99072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3D85-C79C-4EC8-A312-D4B9266FAA9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fil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78508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Just an XPath 2 expres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ed to test if sibling of amount is credit cod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est=“../gl-cor:debitCreditCode eq ‘D’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3200400"/>
            <a:ext cx="1371600" cy="457200"/>
          </a:xfrm>
          <a:prstGeom prst="ellipse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3657600"/>
            <a:ext cx="609480" cy="304920"/>
          </a:xfrm>
          <a:prstGeom prst="ellipse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42D7-6DF5-47EA-AD5B-C4925AE225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ial balance che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80880" y="1146240"/>
            <a:ext cx="8305920" cy="555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D42A-00CB-4999-8F63-49DBECE5BF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lue fil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78508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Value matches an XPath 2 expres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ot Nil tes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il tes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recision expres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9D54-A14E-425C-AC4C-9CF738C659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ending balance compu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09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xbrli:xbr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ingEntries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balance-brought-forwar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MainID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5100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MainDescription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Supplies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Type …&gt;account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accoun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xbrlInfo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xbrlInclude …&gt;beginning_balance&lt;/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xbrlInfo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standar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gl-cor:accountingEntries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xbrli:xbr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2209680"/>
            <a:ext cx="152640" cy="1905120"/>
          </a:xfrm>
          <a:custGeom>
            <a:avLst/>
            <a:gdLst>
              <a:gd name="textAreaLeft" fmla="*/ 97560 w 152640"/>
              <a:gd name="textAreaRight" fmla="*/ 153000 w 15264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7080" y="2819520"/>
            <a:ext cx="16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aggregate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3581280"/>
            <a:ext cx="1752840" cy="533520"/>
          </a:xfrm>
          <a:prstGeom prst="ellipse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6960" y="4038480"/>
            <a:ext cx="25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skip ending_bal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61BE-CED9-487F-8BD6-F5558FAAE7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ending balance compu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28600" y="1136520"/>
            <a:ext cx="8534520" cy="556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936F-4901-4F24-AF6E-E53FF288EF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ending balance tes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dded 2 more variab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r each accou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 amount for ending-balance entry with ‘C’ (credit)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 amount for ending-balance entry with ‘D’ (debit)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ange equation to 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m (credits which are not ending-balance -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debits which are not ending-balance +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redit which is ending-balance –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bit which is not ending-balance) &lt; 1.00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73C4-5574-4355-8335-A2F375B474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2:04:19Z</dcterms:modified>
  <cp:revision>198</cp:revision>
  <dc:subject/>
  <dc:title>Materials preparation</dc:title>
</cp:coreProperties>
</file>